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8872-6E3B-4DC2-A48A-1469F199B4A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AF1A-53A7-414B-A746-6618FA20FA1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77CD-DEFD-41FD-A9DE-5D9296CC716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7F52-45F8-4116-8642-3AFAEBCBE2F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FE58-2AD1-4789-92FB-F55C06CDF9F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5206-2242-4913-987D-41CEF76D95A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8CAE-3EB0-4609-809C-CD1A2ECF9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23D4-A670-427C-93D3-DE7C3EF1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9E3C-640F-4930-8130-D04E332F5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1A75-E34D-41A9-BCEA-667911949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0B07-1CE7-44BF-94E8-CE18C28A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F3A9-F2EF-434A-86CC-89AD4424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6DF5-5E85-48F2-B765-CF915BFB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BAF9-0A97-4295-97E5-7969D4A7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8D3B-1E0A-44E2-8504-25B8D9A8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58B0-83ED-4FCA-8993-73A0BCDC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1787-6EF6-4F8F-A248-2A3BE64C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B53D-67A7-4BFB-8A59-F785B6E9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C9E5-8805-4728-9FB2-959059FA1D5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28480"/>
            <a:ext cx="7772400" cy="32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996600"/>
                </a:solidFill>
                <a:latin typeface="Goudy Stout"/>
              </a:rPr>
              <a:t>Pomniki</a:t>
            </a:r>
            <a:br>
              <a:rPr sz="6000"/>
            </a:br>
            <a:r>
              <a:rPr b="1" lang="pl-PL" sz="4000" spc="-1" strike="noStrike">
                <a:solidFill>
                  <a:srgbClr val="996600"/>
                </a:solidFill>
                <a:latin typeface="Goudy Stout"/>
              </a:rPr>
              <a:t>w</a:t>
            </a:r>
            <a:r>
              <a:rPr b="1" lang="pl-PL" sz="6000" spc="-1" strike="noStrike">
                <a:solidFill>
                  <a:srgbClr val="996600"/>
                </a:solidFill>
                <a:latin typeface="Goudy Stout"/>
              </a:rPr>
              <a:t> </a:t>
            </a:r>
            <a:br>
              <a:rPr sz="6000"/>
            </a:br>
            <a:r>
              <a:rPr b="1" lang="pl-PL" sz="6000" spc="-1" strike="noStrike">
                <a:solidFill>
                  <a:srgbClr val="996600"/>
                </a:solidFill>
                <a:latin typeface="Goudy Stout"/>
              </a:rPr>
              <a:t>Polsc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Syrenka Warszawsk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Obraz 4" descr="IM000348.JPG"/>
          <p:cNvPicPr/>
          <p:nvPr/>
        </p:nvPicPr>
        <p:blipFill>
          <a:blip r:embed="rId1"/>
          <a:srcRect l="22157" t="0" r="27891" b="0"/>
          <a:stretch/>
        </p:blipFill>
        <p:spPr>
          <a:xfrm>
            <a:off x="571680" y="1214280"/>
            <a:ext cx="3357360" cy="5040360"/>
          </a:xfrm>
          <a:prstGeom prst="rect">
            <a:avLst/>
          </a:prstGeom>
          <a:ln w="0">
            <a:noFill/>
          </a:ln>
        </p:spPr>
      </p:pic>
      <p:sp>
        <p:nvSpPr>
          <p:cNvPr id="51" name="pole tekstowe 3"/>
          <p:cNvSpPr/>
          <p:nvPr/>
        </p:nvSpPr>
        <p:spPr>
          <a:xfrm>
            <a:off x="4714920" y="2500200"/>
            <a:ext cx="350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yrenka Warszawska jest symbolem Warszaw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j pomnik stoi nad brzegiem Wisł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Fryderyk Chopi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ole tekstowe 3"/>
          <p:cNvSpPr/>
          <p:nvPr/>
        </p:nvSpPr>
        <p:spPr>
          <a:xfrm>
            <a:off x="4714920" y="2500200"/>
            <a:ext cx="3500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yderyk Chopin był polskim kompozytorem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pianist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den z najbardziej znanych pomników Chopina stoi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Parku Łazienkowskim w Warszaw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raz 3" descr="szopen.jpg"/>
          <p:cNvPicPr/>
          <p:nvPr/>
        </p:nvPicPr>
        <p:blipFill>
          <a:blip r:embed="rId1"/>
          <a:stretch/>
        </p:blipFill>
        <p:spPr>
          <a:xfrm>
            <a:off x="571680" y="1214280"/>
            <a:ext cx="33508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Fontanna Neptuna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ole tekstowe 3"/>
          <p:cNvSpPr/>
          <p:nvPr/>
        </p:nvSpPr>
        <p:spPr>
          <a:xfrm>
            <a:off x="4714920" y="2500200"/>
            <a:ext cx="350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ntanna Neptuna jest symbolem Gdańs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zeźba przedstawia boga mórz i oceanów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Neptu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az 6" descr="neptun.jpg"/>
          <p:cNvPicPr/>
          <p:nvPr/>
        </p:nvPicPr>
        <p:blipFill>
          <a:blip r:embed="rId1"/>
          <a:srcRect l="5714" t="0" r="2854" b="0"/>
          <a:stretch/>
        </p:blipFill>
        <p:spPr>
          <a:xfrm>
            <a:off x="571680" y="1214280"/>
            <a:ext cx="3429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Smok Wawelsk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ole tekstowe 3"/>
          <p:cNvSpPr/>
          <p:nvPr/>
        </p:nvSpPr>
        <p:spPr>
          <a:xfrm>
            <a:off x="4572000" y="1785960"/>
            <a:ext cx="3500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mnik Smoka Wawelskiego ustawiono na pamiątkę legend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 smoku, który gnębił krakowian za rządów króla Kra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mnik stoi przed wejściem do Smoczej Jamy, nad Wisłą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Krakow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az 5" descr="smok1.jpg"/>
          <p:cNvPicPr/>
          <p:nvPr/>
        </p:nvPicPr>
        <p:blipFill>
          <a:blip r:embed="rId1"/>
          <a:srcRect l="9619" t="0" r="2127" b="0"/>
          <a:stretch/>
        </p:blipFill>
        <p:spPr>
          <a:xfrm>
            <a:off x="642960" y="1285920"/>
            <a:ext cx="33577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49640" y="3071520"/>
            <a:ext cx="46432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ff"/>
                </a:solidFill>
                <a:latin typeface="Goudy Stout"/>
              </a:rPr>
              <a:t>KONI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428840" y="4857480"/>
            <a:ext cx="621504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663300"/>
                </a:solidFill>
                <a:latin typeface="Calibri"/>
              </a:rPr>
              <a:t>Prezentację przygotował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pl-PL" sz="3000" spc="-1" strike="noStrike">
                <a:solidFill>
                  <a:srgbClr val="663300"/>
                </a:solidFill>
                <a:latin typeface="Calibri"/>
              </a:rPr>
              <a:t>Grażyna Kob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4:07:42Z</dcterms:created>
  <dc:creator>Grazyna</dc:creator>
  <dc:description/>
  <dc:language>en-US</dc:language>
  <cp:lastModifiedBy>Grazyna</cp:lastModifiedBy>
  <dcterms:modified xsi:type="dcterms:W3CDTF">2010-02-16T18:50:41Z</dcterms:modified>
  <cp:revision>22</cp:revision>
  <dc:subject/>
  <dc:title>Slajd 1</dc:title>
</cp:coreProperties>
</file>